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6.jpeg" ContentType="image/jpeg"/>
  <Override PartName="/ppt/media/image23.png" ContentType="image/png"/>
  <Override PartName="/ppt/media/image22.png" ContentType="image/png"/>
  <Override PartName="/ppt/media/image5.png" ContentType="image/png"/>
  <Override PartName="/ppt/media/image19.png" ContentType="image/png"/>
  <Override PartName="/ppt/media/image2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2925-4FF6-4788-976B-D7E245F3D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D75E-A0C6-43DB-AEE8-43E290395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AA79-960A-43F4-9213-C14BD6C3F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828F-0248-43B2-896D-85346AFEA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90A0E-81F1-4752-B1D5-2C42A336F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1911B-8795-428F-BB7F-FAD144945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03472-C757-4104-A6C6-F0027AF26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FCCBE-B4D2-4BE9-86B6-074BF6C0E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E320F-005F-474B-9E94-0B7456A3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5E6B2-C5C0-4FA8-8394-EB6084346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8237F-D5FC-4514-BD29-C81E4A3C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E9F4-69D1-445A-83C4-8F75916A4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246C0-A8EF-4647-8AAC-9400EDEA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FF0CB-E2A5-4559-84A2-6D9677F9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03E22-5924-4B5F-9507-B3FF9A982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26F8B-09B4-4DAD-9C6A-C83FA7E49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C1102-6DCF-417D-AF45-F72EA7B7A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FA817-49F5-4416-8509-9BEE95217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AFDDB-C91F-4DA9-9E93-ACDCCAA01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0DE44-8F1D-4439-BCD6-95796A9C0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704C3-6433-4902-BA02-A3DD2D98B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86ACC-C989-4317-B59B-C1E98097C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2C30-C724-4E4C-899A-4BDF97B68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BB40B-1343-4906-9724-3069D2584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BC6D2-0399-466A-A8EF-64D873F1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C3DE4-2C69-4586-A6E4-F89B398F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72EF1-9984-4982-877C-F55E8102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B2283-D9BF-44AB-BC85-B82A698D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D47D5-F302-4760-A510-2D74E5245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A118D-15A1-4845-8D20-11C5D8A39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D622A-3A57-40BB-A50E-8D952C1C9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BB82C-1722-4E5D-A572-DA2A98054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2073A-515E-41D7-AE9D-A25C501D5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6062-AA18-4A81-B593-3311DF16A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1A1F4-9F84-47B6-A80A-D0304D00B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C2217-CEB1-47D3-BFB2-465B78E5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E77C2-0D77-4526-871B-8B2502DC4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FF07E-2317-4C2C-B913-7E8BD3AF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07983-8C13-4503-8CA7-5D442F0B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AC8B6-5B75-4760-86BC-39481388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F7528-329E-4309-8545-8CC088E9A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1BF12-E219-457E-9B96-1A40A25A7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97AE7-6EDB-48EA-B3A2-6D392D37A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25AAF-5312-4613-B6F8-5ABE8A6CC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21C8-6382-4716-AD00-774FE0785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1C509-B0BF-4F2A-AE81-5E22C14DC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10BB2-119E-4695-80D8-D8D9B40F6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B36B7-502F-4BE1-97D9-9F7D2B36F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328EF-164A-4532-A07C-A151EB7ED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1052B-C3C5-467D-AAAA-D517ABB53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B5520-3091-4DC1-B7F5-71C00DA5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0FFAB-7CAF-4050-AD7F-0072F7CE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2153E-3134-400A-8FBF-0854DEB1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70A8E-2949-4124-8940-BFF225D8F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C84DD-820E-4837-9532-4CEA28EE3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518C-A1C2-44CA-A29A-D2419D494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E6F79-C49A-4CB8-AB22-66BA949C5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11D030-1E1E-4D69-BD93-95D4FC628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47992-AE7C-4AE8-89D6-5445A38CA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1B3CC-F96D-48B2-A738-8EA6DCA71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D48FB-0003-4F7F-9A1F-DC073ADE3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7637A-F473-4674-BF4E-0D98D944C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AB2AD-CBCC-4F74-AE24-32CB38551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EC0AF-1DB0-45B8-BD21-8B98D69E2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F12767-0803-4DD0-86E0-D93AC6A5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DD553-EFFD-4B28-8E86-B6E97A0C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ACB4-B5CB-4CE5-8533-7CA57682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46782-DBA4-48D1-A5DE-685DA785B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EFFB7-0EE6-497E-BA5A-8024C3819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2BF3C-A80F-4664-AA01-21A4A1562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F60E-4140-40EA-AC6E-45167C67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DAD3-88D4-41CA-B693-694F5864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76BDA-3D57-47F7-AACA-5F74FBED671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8D046-9E34-4AB8-B1EF-1A4C8A6F014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2704D-B553-4BD5-942E-E242F9DC354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36007-F025-4413-922B-9E7102B096C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F0395-8556-42DD-BB2A-B5E4665E051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00E37-9CEE-47C9-860A-6CE37DE373E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8088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dbf5f9"/>
                </a:solidFill>
                <a:latin typeface="Arial"/>
              </a:rPr>
              <a:t>PLANT TISSUES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0" y="9140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pending on the function they perform, we distinguish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hizodermis - parenchyma for absorption of water and mineral substanc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lorenchyma - parenchyma for photosynthesi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enchyma for storing reserve substances (for storing nutrients - proteins, fats), aerenchyma, parenchyma for storing water...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320" name="Object 10"/>
          <p:cNvGraphicFramePr/>
          <p:nvPr/>
        </p:nvGraphicFramePr>
        <p:xfrm>
          <a:off x="5791320" y="533520"/>
          <a:ext cx="2527200" cy="105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533520"/>
                    <a:ext cx="2527200" cy="10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Object 13"/>
          <p:cNvGraphicFramePr/>
          <p:nvPr/>
        </p:nvGraphicFramePr>
        <p:xfrm>
          <a:off x="5791320" y="1752480"/>
          <a:ext cx="2552760" cy="130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3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1752480"/>
                    <a:ext cx="2552760" cy="13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Object 17"/>
          <p:cNvGraphicFramePr/>
          <p:nvPr/>
        </p:nvGraphicFramePr>
        <p:xfrm>
          <a:off x="5791320" y="3200400"/>
          <a:ext cx="2552760" cy="1486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5" name="Object 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91320" y="3200400"/>
                    <a:ext cx="25527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Object 18"/>
          <p:cNvGraphicFramePr/>
          <p:nvPr/>
        </p:nvGraphicFramePr>
        <p:xfrm>
          <a:off x="5791320" y="5029200"/>
          <a:ext cx="2552760" cy="1295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7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91320" y="5029200"/>
                    <a:ext cx="25527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ff"/>
                </a:solidFill>
                <a:latin typeface="Arial"/>
              </a:rPr>
              <a:t>2.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MECHANICAL TISSUE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maintain the shape of the plant bod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cells have a thickened cell wal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wo types of mechanical tissue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9aaf2"/>
                </a:solidFill>
                <a:latin typeface="Arial"/>
              </a:rPr>
              <a:t>COLLENHYM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in the young parts of the plant,i.e. in organs that are still grow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9aaf2"/>
                </a:solidFill>
                <a:latin typeface="Arial"/>
              </a:rPr>
              <a:t>SCLERENCHYM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in the parts of the plant that arefinished grow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ff"/>
                </a:solidFill>
                <a:latin typeface="Arial"/>
              </a:rPr>
              <a:t>COMPLEX PERMANENT TISSUES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ff"/>
                </a:solidFill>
                <a:latin typeface="Arial"/>
              </a:rPr>
              <a:t>1.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PROTECTIVE TISSUE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direct contact with the external environ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lex tissues - they are built by different types of cel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uble function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 protectiv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 communication (stomes, lenticels, nectaries...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100"/>
            </a:br>
            <a:r>
              <a:rPr b="1" lang="sr-CS" sz="3600" spc="-1" strike="noStrike">
                <a:solidFill>
                  <a:srgbClr val="660066"/>
                </a:solidFill>
                <a:latin typeface="Arial"/>
              </a:rPr>
              <a:t>1.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PYDERMI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228600" y="2514240"/>
            <a:ext cx="8686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cated on the surface of the plant body (leaves, flower part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ists of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pidermal cel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pecialized cel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335" name="Object 5"/>
          <p:cNvGraphicFramePr/>
          <p:nvPr/>
        </p:nvGraphicFramePr>
        <p:xfrm>
          <a:off x="5562720" y="4343400"/>
          <a:ext cx="2654280" cy="214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4343400"/>
                    <a:ext cx="2654280" cy="21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7" name="Object 10"/>
          <p:cNvGraphicFramePr/>
          <p:nvPr/>
        </p:nvGraphicFramePr>
        <p:xfrm>
          <a:off x="1295280" y="4856040"/>
          <a:ext cx="2578320" cy="200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8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4856040"/>
                    <a:ext cx="2578320" cy="20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2"/>
          <p:cNvSpPr/>
          <p:nvPr/>
        </p:nvSpPr>
        <p:spPr>
          <a:xfrm>
            <a:off x="457200" y="152280"/>
            <a:ext cx="82296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EPYDERM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380880" y="1219320"/>
            <a:ext cx="7848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T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7" descr="Plant Tissues | Biology 343 – Plants and People"/>
          <p:cNvPicPr/>
          <p:nvPr/>
        </p:nvPicPr>
        <p:blipFill>
          <a:blip r:embed="rId1"/>
          <a:stretch/>
        </p:blipFill>
        <p:spPr>
          <a:xfrm>
            <a:off x="1676520" y="2057400"/>
            <a:ext cx="5790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60066"/>
                </a:solidFill>
                <a:latin typeface="Arial"/>
              </a:rPr>
              <a:t>2. 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PERIDERM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tective laye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is found on the surface of older parts of plant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dually replaces the epidermis - the green color changes to brow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344" name="Object 7"/>
          <p:cNvGraphicFramePr/>
          <p:nvPr/>
        </p:nvGraphicFramePr>
        <p:xfrm>
          <a:off x="4267080" y="2286000"/>
          <a:ext cx="1613160" cy="353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2286000"/>
                    <a:ext cx="1613160" cy="35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Object 6"/>
          <p:cNvGraphicFramePr/>
          <p:nvPr/>
        </p:nvGraphicFramePr>
        <p:xfrm>
          <a:off x="5943600" y="2514600"/>
          <a:ext cx="2971800" cy="279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3600" y="2514600"/>
                    <a:ext cx="2971800" cy="27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8"/>
          <p:cNvSpPr/>
          <p:nvPr/>
        </p:nvSpPr>
        <p:spPr>
          <a:xfrm>
            <a:off x="228600" y="685800"/>
            <a:ext cx="4191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LENTIC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9"/>
          <p:cNvSpPr/>
          <p:nvPr/>
        </p:nvSpPr>
        <p:spPr>
          <a:xfrm>
            <a:off x="228600" y="4648320"/>
            <a:ext cx="73152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s on the periderm instead of compact tissue 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re made of spherical cells with an intercellular space between them - air passes thr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s where there were stomas on the epiderm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Object 10"/>
          <p:cNvGraphicFramePr/>
          <p:nvPr/>
        </p:nvGraphicFramePr>
        <p:xfrm>
          <a:off x="3352680" y="914400"/>
          <a:ext cx="4343400" cy="330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914400"/>
                    <a:ext cx="4343400" cy="33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ff"/>
                </a:solidFill>
                <a:latin typeface="Arial"/>
              </a:rPr>
              <a:t>2.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VASCULAR TISSUE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te in the conduction of matter through all parts of the plant bod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takes place in two direction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IRATION FLOW – transport of water and minerals from the roots to the leav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MILATION FLOW - transport of substances created in the process of photosynthesis from the leaves to the roo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types of tissu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Xyle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Phloe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4" name="Picture 5" descr="Complex permanent tissue - xylem — lesson. Science State Board, Class 9."/>
          <p:cNvPicPr/>
          <p:nvPr/>
        </p:nvPicPr>
        <p:blipFill>
          <a:blip r:embed="rId1"/>
          <a:stretch/>
        </p:blipFill>
        <p:spPr>
          <a:xfrm>
            <a:off x="5372280" y="4648320"/>
            <a:ext cx="28191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ff"/>
                </a:solidFill>
                <a:latin typeface="Arial"/>
              </a:rPr>
              <a:t>3.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SECRETORY SYSTEM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retory cells can be single or in group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thin primary cell wal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duce different secretions - solid or liquid –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retes them from the outside (EXOGENEOUS secretory cells) or collects them in its body (ENDOGENEOUS secretory cell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0" y="1934640"/>
            <a:ext cx="91440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cellular organisms - unicellular alga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cellular organis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8" name="Picture 5" descr="Multicellular and Unicellular Organisms - Differences and Examples"/>
          <p:cNvPicPr/>
          <p:nvPr/>
        </p:nvPicPr>
        <p:blipFill>
          <a:blip r:embed="rId1"/>
          <a:srcRect l="0" t="52463" r="0" b="0"/>
          <a:stretch/>
        </p:blipFill>
        <p:spPr>
          <a:xfrm>
            <a:off x="1371600" y="3657600"/>
            <a:ext cx="61977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58" name="Picture 8" descr="Secretory Tissue in Plants + PPT | Easy Biology Class"/>
          <p:cNvPicPr/>
          <p:nvPr/>
        </p:nvPicPr>
        <p:blipFill>
          <a:blip r:embed="rId1"/>
          <a:srcRect l="0" t="12721" r="45035" b="0"/>
          <a:stretch/>
        </p:blipFill>
        <p:spPr>
          <a:xfrm>
            <a:off x="457200" y="1905120"/>
            <a:ext cx="4648320" cy="47037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0" descr="Secretory tissues in Plants || Resins, gums, tannins, mucilage, Latex -  YouTube"/>
          <p:cNvPicPr/>
          <p:nvPr/>
        </p:nvPicPr>
        <p:blipFill>
          <a:blip r:embed="rId2"/>
          <a:srcRect l="0" t="13606" r="0" b="15643"/>
          <a:stretch/>
        </p:blipFill>
        <p:spPr>
          <a:xfrm>
            <a:off x="5410080" y="2514600"/>
            <a:ext cx="3733920" cy="1981080"/>
          </a:xfrm>
          <a:prstGeom prst="rect">
            <a:avLst/>
          </a:prstGeom>
          <a:ln w="0">
            <a:noFill/>
          </a:ln>
        </p:spPr>
      </p:pic>
      <p:sp>
        <p:nvSpPr>
          <p:cNvPr id="360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lant tissu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group of morphologically and physiologically identical cells with a structure and function different from other cells of the same organis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nt tissues build both living and dead cel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2" descr="Plant tissue | Types Of Plant Tissue System &amp; Their Function"/>
          <p:cNvPicPr/>
          <p:nvPr/>
        </p:nvPicPr>
        <p:blipFill>
          <a:blip r:embed="rId2"/>
          <a:stretch/>
        </p:blipFill>
        <p:spPr>
          <a:xfrm>
            <a:off x="355680" y="1066680"/>
            <a:ext cx="87883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05560" cy="1085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 u="sng">
                <a:solidFill>
                  <a:srgbClr val="ff0000"/>
                </a:solidFill>
                <a:uFillTx/>
                <a:latin typeface="Arial"/>
              </a:rPr>
              <a:t>1.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MERISTEMIC TISSUE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4560" y="1935000"/>
            <a:ext cx="4647960" cy="46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s of the plant body in which cells are constantly dividing are called MERISTEM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s are parenchymatous in shape, with only a primary cell wall, dense cytoplasm, small vacuoles and plastids at the proplastid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ertain number of meristem cells retain their embryonic character throughout the life of the plan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306" name="Object 9"/>
          <p:cNvGraphicFramePr/>
          <p:nvPr/>
        </p:nvGraphicFramePr>
        <p:xfrm>
          <a:off x="5943600" y="1447920"/>
          <a:ext cx="2736720" cy="263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1447920"/>
                    <a:ext cx="2736720" cy="26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Object 11"/>
          <p:cNvGraphicFramePr/>
          <p:nvPr/>
        </p:nvGraphicFramePr>
        <p:xfrm>
          <a:off x="6019920" y="4114800"/>
          <a:ext cx="2895480" cy="274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9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4114800"/>
                    <a:ext cx="289548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228600" y="9140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cording to their position in the plant, meristems can b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1" name="Picture 5" descr="Learn About Location Of Plant Tissue | Chegg.com"/>
          <p:cNvPicPr/>
          <p:nvPr/>
        </p:nvPicPr>
        <p:blipFill>
          <a:blip r:embed="rId1"/>
          <a:stretch/>
        </p:blipFill>
        <p:spPr>
          <a:xfrm>
            <a:off x="1752480" y="2362320"/>
            <a:ext cx="489132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 u="sng">
                <a:solidFill>
                  <a:srgbClr val="ff0000"/>
                </a:solidFill>
                <a:uFillTx/>
                <a:latin typeface="Arial"/>
              </a:rPr>
              <a:t>2.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PERMANENT TISSUE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ells of these tissues are specialized to perform a specific func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ells of these tissues usually do not have the ability to divid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SIMPLE TISSU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onsist of only one type of cells. We include:1) parenchyma 2) mechanical tissues - collenchyma and sclerenchym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COMPLEX TISSU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ontain more than one type of cell. They build three systems:1) subdermal system - epidermis and periderm 2) conducting system - phloem and xylem 3) secretory syste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Rectangle 6" descr=""/>
          <p:cNvPicPr/>
          <p:nvPr/>
        </p:nvPicPr>
        <p:blipFill>
          <a:blip r:embed="rId1"/>
          <a:stretch/>
        </p:blipFill>
        <p:spPr>
          <a:xfrm>
            <a:off x="450720" y="2206800"/>
            <a:ext cx="82425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sr-CS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4617b"/>
                </a:solidFill>
                <a:latin typeface="Arial"/>
              </a:rPr>
              <a:t>PARENCHYMAL TISSUE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305920" cy="21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s the basic mass of the plant bod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s of parenchymal tissue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a thin primary cell wal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ytoplasm are plastids and a large vacuol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s retain the ability to divid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317" name="Object 6"/>
          <p:cNvGraphicFramePr/>
          <p:nvPr/>
        </p:nvGraphicFramePr>
        <p:xfrm>
          <a:off x="1981080" y="4343400"/>
          <a:ext cx="4724640" cy="242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4343400"/>
                    <a:ext cx="4724640" cy="24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5T07:13:33Z</dcterms:created>
  <dc:creator>prodekan 01</dc:creator>
  <dc:description/>
  <dc:language>en-US</dc:language>
  <cp:lastModifiedBy>Korisnik</cp:lastModifiedBy>
  <dcterms:modified xsi:type="dcterms:W3CDTF">2022-10-03T13:34:31Z</dcterms:modified>
  <cp:revision>192</cp:revision>
  <dc:subject/>
  <dc:title>HROMOZOMSKE ABERACIJE</dc:title>
</cp:coreProperties>
</file>